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89CD-607F-465F-AD83-18D00934B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CA28-0449-46E5-BDCD-52875D222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61FD-87EC-41A8-B320-FA4446989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2359-18C2-411F-9D48-5BBF0C518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9CB6-8438-460E-9DCE-90206431A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23EE-24C6-44A4-A092-DB29D4823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5136-241F-472E-8551-CAB8399DC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CB00-856E-4BA1-917C-BEEF96A5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AB6A-6576-4A98-947A-FFA3B2E1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D83F-D9D1-4EC1-8F37-D5C40189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80A2-585C-4D20-99A1-004B3727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6C27-677D-4E47-8347-83EB32D6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99D7-C7B1-4D17-9FC1-D2606D7C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B2C5-45B4-4272-A032-3DBE918C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595A-F2A4-4F0F-8E0F-BD5D8CF9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B223-E708-4776-8ADE-D956302E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49FE-25E0-49C4-B280-F5D5CD05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43E2-A814-4F24-A718-158708E9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E772-447B-4B77-8E22-0087FEDF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45A3-33FC-4379-953B-04C945BD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9B18-B20A-434B-BFD2-D41F3FD4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EE30-3AE0-4F7B-A3B9-F0F12CBC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532F-7F93-4461-81E5-3D386CB9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B4FD-DB23-4E2A-962E-189DA16A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64DE-00DA-4130-A50A-C4D85BC8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60DB-9339-4296-8C32-913BB5A1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A775-A04C-4F6F-B076-CFDB7A46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B46C-0445-449A-9B88-BCA76D5D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7B48-CFE0-4BCF-BEB9-18A1CE90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2B3B-4E8B-4F00-9676-A12885E2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8809-75C3-4EC1-BF97-803D3411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62640" y="-4680"/>
                <a:ext cx="979560" cy="6831720"/>
              </a:xfrm>
              <a:custGeom>
                <a:avLst/>
                <a:gdLst>
                  <a:gd name="textAreaLeft" fmla="*/ -360 w 979560"/>
                  <a:gd name="textAreaRight" fmla="*/ 979560 w 979560"/>
                  <a:gd name="textAreaTop" fmla="*/ 0 h 6831720"/>
                  <a:gd name="textAreaBottom" fmla="*/ 6832080 h 683172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8320" y="1697040"/>
                <a:ext cx="979920" cy="50076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63000" y="1283760"/>
                <a:ext cx="979560" cy="502920"/>
              </a:xfrm>
              <a:custGeom>
                <a:avLst/>
                <a:gdLst>
                  <a:gd name="textAreaLeft" fmla="*/ -360 w 979560"/>
                  <a:gd name="textAreaRight" fmla="*/ 979560 w 97956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63000" y="148320"/>
                <a:ext cx="979560" cy="302760"/>
              </a:xfrm>
              <a:custGeom>
                <a:avLst/>
                <a:gdLst>
                  <a:gd name="textAreaLeft" fmla="*/ -360 w 979560"/>
                  <a:gd name="textAreaRight" fmla="*/ 979560 w 97956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8320" y="989640"/>
                <a:ext cx="979920" cy="3481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60120" y="680400"/>
                <a:ext cx="979920" cy="4327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61560" y="372600"/>
                <a:ext cx="992160" cy="375480"/>
              </a:xfrm>
              <a:custGeom>
                <a:avLst/>
                <a:gdLst>
                  <a:gd name="textAreaLeft" fmla="*/ 360 w 992160"/>
                  <a:gd name="textAreaRight" fmla="*/ 992880 w 99216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5720" y="3933720"/>
                <a:ext cx="979920" cy="4993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50400" y="3536640"/>
                <a:ext cx="979920" cy="50076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50400" y="2397600"/>
                <a:ext cx="979920" cy="30420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50400" y="3231000"/>
                <a:ext cx="979920" cy="34704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50400" y="2931480"/>
                <a:ext cx="979920" cy="42768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50400" y="2616480"/>
                <a:ext cx="992160" cy="375840"/>
              </a:xfrm>
              <a:custGeom>
                <a:avLst/>
                <a:gdLst>
                  <a:gd name="textAreaLeft" fmla="*/ 360 w 992160"/>
                  <a:gd name="textAreaRight" fmla="*/ 992880 w 99216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6200"/>
                <a:ext cx="979920" cy="4993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3640" y="4552200"/>
                <a:ext cx="979920" cy="5029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5720" y="5659560"/>
                <a:ext cx="979920" cy="30276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440" y="6189840"/>
                <a:ext cx="345960" cy="98100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81000"/>
                  <a:gd name="textAreaBottom" fmla="*/ 981360 h 98100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94520"/>
                <a:ext cx="979920" cy="4291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84920"/>
                <a:ext cx="992160" cy="375840"/>
              </a:xfrm>
              <a:custGeom>
                <a:avLst/>
                <a:gdLst>
                  <a:gd name="textAreaLeft" fmla="*/ 360 w 992160"/>
                  <a:gd name="textAreaRight" fmla="*/ 992880 w 99216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A2FF-E97B-47F3-8D7C-87CBA52C4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5560"/>
              <a:chOff x="-3240" y="2479680"/>
              <a:chExt cx="9146880" cy="10155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5320"/>
                <a:ext cx="990720" cy="4042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35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740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6240" y="2777400"/>
                <a:ext cx="990720" cy="4042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24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170C-19A2-4B32-A1A6-288F97A55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Byzantine Empire 1000-1100"/>
          <p:cNvPicPr/>
          <p:nvPr/>
        </p:nvPicPr>
        <p:blipFill>
          <a:blip r:embed="rId1"/>
          <a:stretch/>
        </p:blipFill>
        <p:spPr>
          <a:xfrm>
            <a:off x="5562720" y="304920"/>
            <a:ext cx="3200400" cy="23637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Byzantine Empi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se, Achievements, Decline, and Demise of The Byzantine Em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New Rome in a New Sett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685440"/>
            <a:ext cx="83059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ern Roman Empire crumbled in 5th 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run by invading Germanic tri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ring a threat to the empire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mperor Constant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builds the old port city of 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amed the c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tantino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made it capital of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as to be the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result, an eastern empire gradually came into be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and West officiall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D 3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 this, eastern successors see themselves as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man Empero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anking Byzantine nobleman succeeds his uncle to the th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-360"/>
            <a:ext cx="830592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inian co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rt histori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opi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cribes Justinian in two ligh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99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Arial"/>
              </a:rPr>
              <a:t>Firs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99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cc"/>
                </a:solidFill>
                <a:latin typeface="Arial"/>
              </a:rPr>
              <a:t>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99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cc"/>
                </a:solidFill>
                <a:latin typeface="Arial"/>
              </a:rPr>
              <a:t>Even-temp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99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cc"/>
                </a:solidFill>
                <a:latin typeface="Arial"/>
              </a:rPr>
              <a:t>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description (from “Secret History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Deceitful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- Two-fa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Devious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- 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_____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- Skilled in dissembling his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Hypocritical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- Never moved to tears by joy or p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33, Justinian sends best gener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recover North Africa from the Vand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this in a few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years later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eizes it from the Ostrogo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 the next 16 years, Rome changes hands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inian’s armies w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is territorial power allowed Justinian to give himself the title of new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Ce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742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uilding the ____________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zantine emperors ruled with 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d the 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tics were brutal, not spiri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d under constant risk of 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8 Byzantine empe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 die viol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 abandon throne and live in monas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990720" y="35053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astern Roman empire had its own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w spoke Latin, most spoke 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longed to the 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inian and panel of ten legal experts combine 400 years of Roman law and legal opinions to form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de up of four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1440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ed nearly 5000 Roman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oted and summarized Rome’s greatest legal thin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 that told law students how to use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(New Laws)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legislation passed after 5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de served the Byzantine empire for over 90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the Imperial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inian launches most ambitious building program ever seen in the Rom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built the massive fortifications surrounding the city (pg 3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was Justinian’s greatest pa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_____________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splendid church in the Christian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ch mosaics in the light of thousands of candles and la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auty helped convince Russians that their country should adopt Byzantine Christia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parts of the building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larged palace, baths, aqueducts, law courts, schools,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Justinian Co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-360"/>
            <a:ext cx="830592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inople’s hectic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street through Constantinople called ________________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hant stalls lined main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ppers could buy products from England, France, Spain, Africa, Russia, India,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ings include tin, wine, cork, ivory, gold, fur, honey, timber, spices, silk, food st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ians and acrobats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 (60,000 specta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d chariot races and circus 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ns of different teams formed 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2, Blues and Greens spark 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sarius slaughters 30,000 reb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s 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inian’s steely advisor; ___________________________; major political infl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5 they married; she was the 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 with foreign envoys, wrote foreign leaders, passed laws, built chur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00:26:24Z</dcterms:created>
  <dc:creator>System Administrator</dc:creator>
  <dc:description/>
  <dc:language>en-US</dc:language>
  <cp:lastModifiedBy>admin</cp:lastModifiedBy>
  <dcterms:modified xsi:type="dcterms:W3CDTF">2010-11-30T16:16:49Z</dcterms:modified>
  <cp:revision>53</cp:revision>
  <dc:subject/>
  <dc:title>The Byzantine Empire</dc:title>
</cp:coreProperties>
</file>